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0E5A-FC38-41E9-BE3C-F2E5C6246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4875-BE24-4154-ABE1-5D40DDE1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E538-7225-42DE-A6CB-5E628DFFA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4DD0-C5D8-440F-98B8-3BC293639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2765-30DB-42E5-92D1-77F03BB7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7611-0A0F-426D-94AA-1C9B45C2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A64F-E5AB-439C-BE0C-040C6076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0AF8-1462-4BF7-B2D3-DB19FF30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7EB0-D4F5-4985-9866-390CC5D0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F35D-C501-4EA5-9CF1-43A62A01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1639-9DA3-44F3-8717-5955C0AC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E2DE-E088-45EC-961F-FEB2EFF7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7577-74B0-46CC-87A8-925735AD1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90920" y="1371600"/>
          <a:ext cx="1523880" cy="528480"/>
        </p:xfrm>
        <a:graphic>
          <a:graphicData uri="http://schemas.openxmlformats.org/drawingml/2006/table">
            <a:tbl>
              <a:tblPr/>
              <a:tblGrid>
                <a:gridCol w="1523880"/>
              </a:tblGrid>
              <a:tr h="54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Županijski cen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685800" y="1371600"/>
          <a:ext cx="1523880" cy="485640"/>
        </p:xfrm>
        <a:graphic>
          <a:graphicData uri="http://schemas.openxmlformats.org/drawingml/2006/table">
            <a:tbl>
              <a:tblPr/>
              <a:tblGrid>
                <a:gridCol w="1523880"/>
              </a:tblGrid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trogasna postrojb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4572000" y="1371600"/>
          <a:ext cx="1523880" cy="492120"/>
        </p:xfrm>
        <a:graphic>
          <a:graphicData uri="http://schemas.openxmlformats.org/drawingml/2006/table">
            <a:tbl>
              <a:tblPr/>
              <a:tblGrid>
                <a:gridCol w="1523880"/>
              </a:tblGrid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cijska posta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vjera doja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2666880" y="2340000"/>
          <a:ext cx="1524240" cy="941400"/>
        </p:xfrm>
        <a:graphic>
          <a:graphicData uri="http://schemas.openxmlformats.org/drawingml/2006/table">
            <a:tbl>
              <a:tblPr/>
              <a:tblGrid>
                <a:gridCol w="1524240"/>
              </a:tblGrid>
              <a:tr h="94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Voditelj eko stožera- županica i tajnik eko- stož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819520" y="304920"/>
            <a:ext cx="114300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19520" y="38088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uočitelj onečišćen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990720"/>
            <a:ext cx="180720" cy="304560"/>
          </a:xfrm>
          <a:prstGeom prst="downArrow">
            <a:avLst>
              <a:gd name="adj1" fmla="val 50000"/>
              <a:gd name="adj2" fmla="val 421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2209680"/>
            <a:ext cx="11430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228600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siguranje lokaci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/>
          <p:nvPr/>
        </p:nvCxnSpPr>
        <p:spPr>
          <a:xfrm flipH="1">
            <a:off x="2208960" y="167616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/>
          <p:nvPr/>
        </p:nvCxnSpPr>
        <p:spPr>
          <a:xfrm>
            <a:off x="4114800" y="167616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endCxn id="48" idx="7"/>
          </p:cNvCxnSpPr>
          <p:nvPr/>
        </p:nvCxnSpPr>
        <p:spPr>
          <a:xfrm flipH="1">
            <a:off x="5395320" y="1877760"/>
            <a:ext cx="700920" cy="4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8" idx="1"/>
          </p:cNvCxnSpPr>
          <p:nvPr/>
        </p:nvCxnSpPr>
        <p:spPr>
          <a:xfrm flipH="1" flipV="1">
            <a:off x="4114440" y="1914120"/>
            <a:ext cx="473040" cy="374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609480" y="3657600"/>
            <a:ext cx="129564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666880" y="3657600"/>
          <a:ext cx="1524240" cy="515880"/>
        </p:xfrm>
        <a:graphic>
          <a:graphicData uri="http://schemas.openxmlformats.org/drawingml/2006/table">
            <a:tbl>
              <a:tblPr/>
              <a:tblGrid>
                <a:gridCol w="15242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županijski eko-stož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cxnSp>
        <p:nvCxnSpPr>
          <p:cNvPr id="56" name=""/>
          <p:cNvCxnSpPr/>
          <p:nvPr/>
        </p:nvCxnSpPr>
        <p:spPr>
          <a:xfrm>
            <a:off x="3352320" y="3200040"/>
            <a:ext cx="1080" cy="44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4800600" y="3657600"/>
            <a:ext cx="121932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37339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kspertna jedinic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373392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ventne jedin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"/>
          <p:cNvCxnSpPr/>
          <p:nvPr/>
        </p:nvCxnSpPr>
        <p:spPr>
          <a:xfrm flipH="1">
            <a:off x="1218960" y="3352320"/>
            <a:ext cx="2134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/>
          <p:nvPr/>
        </p:nvCxnSpPr>
        <p:spPr>
          <a:xfrm>
            <a:off x="3357720" y="3347640"/>
            <a:ext cx="2134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/>
          <p:nvPr/>
        </p:nvCxnSpPr>
        <p:spPr>
          <a:xfrm>
            <a:off x="1218960" y="335232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/>
          <p:nvPr/>
        </p:nvCxnSpPr>
        <p:spPr>
          <a:xfrm>
            <a:off x="5409720" y="335232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2362320" y="4876920"/>
            <a:ext cx="83808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/>
          <p:nvPr/>
        </p:nvCxnSpPr>
        <p:spPr>
          <a:xfrm>
            <a:off x="3428640" y="419076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/>
          <p:nvPr/>
        </p:nvCxnSpPr>
        <p:spPr>
          <a:xfrm>
            <a:off x="1294920" y="4571640"/>
            <a:ext cx="4343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" name=""/>
          <p:cNvSpPr/>
          <p:nvPr/>
        </p:nvSpPr>
        <p:spPr>
          <a:xfrm>
            <a:off x="2209680" y="495288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soba za komunikaciju s javnošć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4876920"/>
            <a:ext cx="83808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4876920"/>
            <a:ext cx="838440" cy="761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4876920"/>
            <a:ext cx="838440" cy="761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5029200"/>
            <a:ext cx="1143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adležn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č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81280" y="4952880"/>
            <a:ext cx="9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Verdana"/>
              </a:rPr>
              <a:t>inspektor zaštite okliš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4952880"/>
            <a:ext cx="9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zavod za javno zdravstv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/>
          <p:nvPr/>
        </p:nvCxnSpPr>
        <p:spPr>
          <a:xfrm>
            <a:off x="2742840" y="45716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/>
          <p:nvPr/>
        </p:nvCxnSpPr>
        <p:spPr>
          <a:xfrm>
            <a:off x="4038120" y="45716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/>
          <p:nvPr/>
        </p:nvCxnSpPr>
        <p:spPr>
          <a:xfrm>
            <a:off x="1294920" y="45716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/>
          <p:nvPr/>
        </p:nvCxnSpPr>
        <p:spPr>
          <a:xfrm>
            <a:off x="5638320" y="457164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2438280" y="5943600"/>
            <a:ext cx="76212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66880" y="56386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6400800"/>
            <a:ext cx="1219320" cy="3808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68" idx="4"/>
            <a:endCxn id="80" idx="1"/>
          </p:cNvCxnSpPr>
          <p:nvPr/>
        </p:nvCxnSpPr>
        <p:spPr>
          <a:xfrm flipH="1" rot="16200000">
            <a:off x="1333440" y="5638680"/>
            <a:ext cx="952920" cy="952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0" idx="4"/>
            <a:endCxn id="80" idx="3"/>
          </p:cNvCxnSpPr>
          <p:nvPr/>
        </p:nvCxnSpPr>
        <p:spPr>
          <a:xfrm rot="5400000">
            <a:off x="3276720" y="5867280"/>
            <a:ext cx="952920" cy="495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3" name=""/>
          <p:cNvCxnSpPr>
            <a:stCxn id="70" idx="4"/>
            <a:endCxn id="80" idx="3"/>
          </p:cNvCxnSpPr>
          <p:nvPr/>
        </p:nvCxnSpPr>
        <p:spPr>
          <a:xfrm rot="5400000">
            <a:off x="3276720" y="5867280"/>
            <a:ext cx="952920" cy="49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2438280" y="64771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čevidni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59436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avn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0" y="6934320"/>
            <a:ext cx="1219320" cy="3808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7467480"/>
            <a:ext cx="1219320" cy="3812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/>
          <p:nvPr/>
        </p:nvCxnSpPr>
        <p:spPr>
          <a:xfrm>
            <a:off x="3357360" y="1907640"/>
            <a:ext cx="1080" cy="45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2286000" y="7010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ervenci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62320" y="75438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naci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/>
          <p:nvPr/>
        </p:nvCxnSpPr>
        <p:spPr>
          <a:xfrm>
            <a:off x="2895120" y="73148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" name=""/>
          <p:cNvSpPr/>
          <p:nvPr/>
        </p:nvSpPr>
        <p:spPr>
          <a:xfrm>
            <a:off x="2286000" y="8001000"/>
            <a:ext cx="1219320" cy="3808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2895120" y="67816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/>
          <p:nvPr/>
        </p:nvCxnSpPr>
        <p:spPr>
          <a:xfrm>
            <a:off x="2895120" y="7848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2286000" y="8077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adzor sanaci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8458200"/>
            <a:ext cx="25146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8458200"/>
            <a:ext cx="2057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roglašenje završetka intervencije (primjene Plana)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7800" y="8534520"/>
            <a:ext cx="1219320" cy="3808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845820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izvješće o interveni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/>
          <p:nvPr/>
        </p:nvCxnSpPr>
        <p:spPr>
          <a:xfrm rot="5400000">
            <a:off x="2742480" y="6476760"/>
            <a:ext cx="2439000" cy="610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H="1">
            <a:off x="3504600" y="8001000"/>
            <a:ext cx="1530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/>
          <p:nvPr/>
        </p:nvCxnSpPr>
        <p:spPr>
          <a:xfrm>
            <a:off x="4800600" y="86864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/>
          <p:nvPr/>
        </p:nvCxnSpPr>
        <p:spPr>
          <a:xfrm>
            <a:off x="2895120" y="83818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2T08:25:30Z</dcterms:created>
  <dc:creator>BLANKA</dc:creator>
  <dc:description/>
  <dc:language>en-US</dc:language>
  <cp:lastModifiedBy>WinXPProSP2</cp:lastModifiedBy>
  <dcterms:modified xsi:type="dcterms:W3CDTF">2008-01-18T13:42:23Z</dcterms:modified>
  <cp:revision>8</cp:revision>
  <dc:subject/>
  <dc:title>PowerPoint Presentation</dc:title>
</cp:coreProperties>
</file>